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5CCF-FCED-4958-99E3-E493108EA1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5487-9FF2-416E-8F91-BAF8EF2121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8EA4-C173-43A8-8F06-EC8EDB388C6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C17-1254-4E7E-8726-80CE453C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17F-01EA-4B6C-8621-B61CB95D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22489-8960-48DD-9623-D5CD210C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BC63AC-43E0-4FFC-95FD-80016472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2F24C-E649-4E02-8184-F1AAFA31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406FD6-5B04-4CD8-8E82-48054075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BDF5F0-48F8-45E9-9609-86C6387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36E0EA-4339-4A22-A77F-A7318AD1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C8163-D183-49F5-9B2F-C085861F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858ADD-D2ED-4AEA-9AFC-8EF3B3A3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334FEC-079A-455A-9AE5-2647A949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F38-084E-46C6-8DB7-45CCED05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547-F32F-4742-A27D-7EC096FE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837B8-803C-45DB-A299-1B73BFC9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8030B-C546-41F3-8758-8F97B66E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FEB03-20F1-4FA2-907E-3E32508D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65076-AD84-4777-A3B1-70047AB7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A847C-9314-4B0F-9B05-D9189BC6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B6646-6DBF-477F-9EA2-2F46FE61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5A11F-0725-4C1A-A571-C622EB5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863-B273-405F-B3FE-C3B35C90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E2E41-BFD7-4C62-8D78-061C287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0194E-8040-40DA-AAAE-3AD54349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A7A9B-372C-446E-B08F-30341BA5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F7F67-9BCD-4367-8C2A-51372FBC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1B836-544B-49F0-A165-CC9EB73D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49C1-24F2-4CA3-9E76-4DF46482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DE43-BB13-4C53-A636-FDEE61DF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5CC7-9FFD-4F4D-9F61-3A1E8B55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FF8F-3ECA-462B-A885-A466F4B6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541C-FCB1-4AF6-A180-0089B190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CAA-54C9-4F80-B49A-68657658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F901-2467-4E65-A258-A52DBE9A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9CB4-50F5-429C-AAE8-7FA5CCBF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66C9-6570-4AFB-98EF-CD049AC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DCE9-EA33-46AE-B4FD-78CE1E82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5432-832C-4084-8159-959943A5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697E-83E2-468C-99D3-6FF7099A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13C4-D9E6-4AE5-97C4-FF6B338D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2700D-C25A-4595-82C4-9DF71FA4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C4DC21-0BFF-482F-B31D-191651B2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F3CF3-CE40-431D-A0F1-F4CFAAEB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E2D-67AC-4348-A762-0830CD99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10D5A-E9D7-4272-9152-4AAB4A90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8A947-C93F-42E5-B411-6EE86AA6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A7A6B-89FF-4557-8A2B-3E5E15CB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DFEE3-A541-42E5-8E80-5853AA6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5CA24-147C-4C6B-BD1A-B0E920BD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A6136-093D-4880-8F3D-96AC22D6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B4B5C-8C41-4D35-B082-1C433161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08D15-16CA-4C27-850C-4E58EB9E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99B71-5676-4115-9B92-248C9437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7FA1-F010-4001-AB46-84ACB5CD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2EA-2E76-49A9-9963-98BA648C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4A70-7815-4DE0-A56F-79FABC6A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D81DF-BD59-4438-AB56-7047D33F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7FBD-72A6-406A-9E53-6B88146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8DEA1-D7DB-40E7-9093-8FA65F6E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95CA5-59D6-472E-B369-7D6BA0CC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858AD-0F94-409D-AA94-8E982F9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1167F-74A0-4EEA-8E40-7156AD4F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1AE9E-52C1-4C83-AD37-F8CE736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735C8-43DB-47BD-9BC0-55CF767B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ACB4-8CA1-47AE-91B7-A916569E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C15-B56F-41CE-BCFE-83BE601B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B399B-42D2-4682-955B-F9781AAF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17C8A-BF9C-4F7C-BBCD-34A17F53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E3AFF-6EA2-4F8B-922F-6589792F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D1D63-028D-418B-8600-C015A7A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2753-E105-440B-81CA-BDACC267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91AAE-F20B-4B34-9690-08CDA53B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A6917-A22C-477B-B7CD-A4C042AB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E5FF-D7E7-42BC-83A8-AE38512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1AFE7-510B-4CE9-B0B8-B9C1B94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CB0EC-5E34-4C6C-B3D7-C3AA424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1DA-1235-4C52-8182-C5F16AB1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1C5F-5856-4C77-85B3-F945FCAD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C26DC-63F8-4CE0-9367-48BAD2D3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1E24C-9B03-4438-B912-2044AACC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D53A5-BAFA-4971-998A-CB5D8985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DF3C2-8D4B-414F-B940-44FDB637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E52AF-3817-40AC-B407-7D2473C0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3FBCE-698D-4809-8973-F91C0B3A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5FF82-0BFB-43BB-BCC9-2292CB91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3F88C-F0C5-42FB-97D3-65978DD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F8390-D10F-4D90-B0A3-23CAFCAD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93B-4D62-466A-9A8F-5F397962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BF80D-70D9-4C77-B366-3A43211F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FE277-4F78-4257-B8ED-1027C9A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5CD8-3C3F-4BFC-8D52-8AF65CA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62D7-B11F-47A9-AB26-40D3FDE4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2751A-B2EA-486A-B598-30625AE4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469503-14BD-4216-BBA5-F2381C08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44A51-2471-496B-BF6B-900561C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1472E6-8F97-4696-BEBA-763C8557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5D2BA0-32D7-406F-BFBC-9E4748AD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620CDF-3B44-476B-91E6-C88AFDFE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5DC-9F42-456F-8D69-F390C88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F8A49-A9B3-4DC1-B8FA-0CF585E1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7A1BA5-E723-442F-8013-D9712385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7CABF5-797B-446D-AA02-9943D72F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94A545-AF09-47DA-B5B3-C2173E8B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CCFE7C-1677-440B-A35A-72463834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603A8E-97F2-4379-BED2-F58B77C7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F06FC-F74D-47F4-8C61-A3F18324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3FE507-5B0D-47FF-88C0-41F0A001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8F13E-AD5B-4EF4-9BAE-0481A02D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101DD5-01BB-43A2-A4F5-189C314A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595F-3C5A-43AD-9740-70F2A7FFA6E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F28F-3448-4F06-A5EC-B068A4C9E6F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697D-26F6-40BE-A7CD-918DFF51E19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C5E1-0824-4C46-8FFB-3E480674662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5573-93D9-4242-A000-679D3B7C960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D7C3-398D-4924-94ED-B77ABF97211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4A03-AC12-4FBC-B119-DC3C328CD48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CFB6-5E9A-487F-9905-6D6E5BC7A9D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D700-ECA7-4A77-8563-C082132A580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1214280" y="1000080"/>
            <a:ext cx="650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ИНТЕРЕСНЫЕ ФАКТЫ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О    КАРТОФЕЛЕ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Рисунок 3" descr="Интересные факты о картофеле"/>
          <p:cNvPicPr/>
          <p:nvPr/>
        </p:nvPicPr>
        <p:blipFill>
          <a:blip r:embed="rId1"/>
          <a:stretch/>
        </p:blipFill>
        <p:spPr>
          <a:xfrm>
            <a:off x="5357880" y="4286160"/>
            <a:ext cx="32148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"/>
          <p:cNvSpPr/>
          <p:nvPr/>
        </p:nvSpPr>
        <p:spPr>
          <a:xfrm>
            <a:off x="285840" y="20761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Немка Линда Томсен установила мировой рекорд по очистке картофеля.   За 10 минут от кожуры ею было очищено 10,49 килограмм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428760" y="29016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8888"/>
                </a:solidFill>
                <a:latin typeface="Verdana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6  килограмм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реной картошки за 10 минут съел Пэт Бертолетти на очередном чемпионате в Канаде. Тем самым он установил мировой рекорд и попал в книгу рекордов Гиннеса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285840" y="350676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роведя многочисленные исследования, ученые доказали, что картофельная диета влияет на работу мозга. После употребления порции картофельного пюре наступает улучшение памяти из-за находящейся в нем глюкозы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3" name="Рисунок 4" descr="Интересные факты о картофеле"/>
          <p:cNvPicPr/>
          <p:nvPr/>
        </p:nvPicPr>
        <p:blipFill>
          <a:blip r:embed="rId1"/>
          <a:stretch/>
        </p:blipFill>
        <p:spPr>
          <a:xfrm>
            <a:off x="6286680" y="5232240"/>
            <a:ext cx="2162160" cy="13399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5" descr="Интересные факты о картофеле"/>
          <p:cNvPicPr/>
          <p:nvPr/>
        </p:nvPicPr>
        <p:blipFill>
          <a:blip r:embed="rId2"/>
          <a:stretch/>
        </p:blipFill>
        <p:spPr>
          <a:xfrm>
            <a:off x="785880" y="5500800"/>
            <a:ext cx="1657440" cy="10573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6" descr="Интересные факты о картофеле"/>
          <p:cNvPicPr/>
          <p:nvPr/>
        </p:nvPicPr>
        <p:blipFill>
          <a:blip r:embed="rId3"/>
          <a:stretch/>
        </p:blipFill>
        <p:spPr>
          <a:xfrm>
            <a:off x="3429000" y="5286240"/>
            <a:ext cx="1486080" cy="11145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7" descr="Интересные факты о картофеле"/>
          <p:cNvPicPr/>
          <p:nvPr/>
        </p:nvPicPr>
        <p:blipFill>
          <a:blip r:embed="rId4"/>
          <a:stretch/>
        </p:blipFill>
        <p:spPr>
          <a:xfrm>
            <a:off x="7500960" y="4071960"/>
            <a:ext cx="13334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"/>
          <p:cNvSpPr/>
          <p:nvPr/>
        </p:nvSpPr>
        <p:spPr>
          <a:xfrm>
            <a:off x="500040" y="30096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ворят, что одной картошкой сыт не будешь. Однако на нашем столе она занимает одно из главных мест.   2 тысячи блюд можно приготовить из картофеля – от салатов и пюре до киселя и пирогов. Этому способствуют его кулинарная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иверсальность и отличная сочетаемость с другими продуктами. Профессионалы советуют использовать розовый  картофель для жарки, желтый – для приготовления супов, а белый – для пюр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8" name="Рисунок 2" descr="Интересные факты о картофеле"/>
          <p:cNvPicPr/>
          <p:nvPr/>
        </p:nvPicPr>
        <p:blipFill>
          <a:blip r:embed="rId1"/>
          <a:stretch/>
        </p:blipFill>
        <p:spPr>
          <a:xfrm>
            <a:off x="4643280" y="3500280"/>
            <a:ext cx="4000680" cy="278136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3" descr="Интересные факты о картофеле"/>
          <p:cNvPicPr/>
          <p:nvPr/>
        </p:nvPicPr>
        <p:blipFill>
          <a:blip r:embed="rId2"/>
          <a:stretch/>
        </p:blipFill>
        <p:spPr>
          <a:xfrm>
            <a:off x="571680" y="350028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1"/>
          <p:cNvSpPr/>
          <p:nvPr/>
        </p:nvSpPr>
        <p:spPr>
          <a:xfrm>
            <a:off x="428760" y="357120"/>
            <a:ext cx="871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 из самых распространённых сортов с синеватой кожурой, выращиваемых на российских огородах — «синеглазка». Однако мало кто знает, что по-научному она называется «Ганнибал», в честь прадеда Александра Пушкина Абрама Ганнибала, который первым провёл опыты по селекции и хранению картофеля в Росси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1" name="Рисунок 2" descr="http://luts.ucoz.ru/_ld/7/13080745.jpeg"/>
          <p:cNvPicPr/>
          <p:nvPr/>
        </p:nvPicPr>
        <p:blipFill>
          <a:blip r:embed="rId1"/>
          <a:stretch/>
        </p:blipFill>
        <p:spPr>
          <a:xfrm>
            <a:off x="500040" y="292896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3" descr="http://luts.ucoz.ru/_ld/7/21518735.jpg"/>
          <p:cNvPicPr/>
          <p:nvPr/>
        </p:nvPicPr>
        <p:blipFill>
          <a:blip r:embed="rId2"/>
          <a:stretch/>
        </p:blipFill>
        <p:spPr>
          <a:xfrm>
            <a:off x="4214880" y="3000240"/>
            <a:ext cx="41432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luts.ucoz.ru/_ld/7/s03963408.jpg"/>
          <p:cNvPicPr/>
          <p:nvPr/>
        </p:nvPicPr>
        <p:blipFill>
          <a:blip r:embed="rId1"/>
          <a:stretch/>
        </p:blipFill>
        <p:spPr>
          <a:xfrm>
            <a:off x="571680" y="428760"/>
            <a:ext cx="4214520" cy="31431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2" descr="http://luts.ucoz.ru/_ld/7/s54159830.jpg"/>
          <p:cNvPicPr/>
          <p:nvPr/>
        </p:nvPicPr>
        <p:blipFill>
          <a:blip r:embed="rId2"/>
          <a:stretch/>
        </p:blipFill>
        <p:spPr>
          <a:xfrm>
            <a:off x="4429080" y="3357720"/>
            <a:ext cx="4429080" cy="321444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3"/>
          <p:cNvSpPr/>
          <p:nvPr/>
        </p:nvSpPr>
        <p:spPr>
          <a:xfrm>
            <a:off x="5000760" y="428760"/>
            <a:ext cx="38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кие сорта картофеля. Цвет их мякоти и  кожуры даже после варки остается сини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рямоугольник 1"/>
          <p:cNvSpPr/>
          <p:nvPr/>
        </p:nvSpPr>
        <p:spPr>
          <a:xfrm>
            <a:off x="642960" y="428760"/>
            <a:ext cx="7358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 and Agriculture Organization (FAO) ООН объявила 2008 год «Международным годом картофеля».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7" name="Прямоугольник 2"/>
          <p:cNvSpPr/>
          <p:nvPr/>
        </p:nvSpPr>
        <p:spPr>
          <a:xfrm>
            <a:off x="642960" y="19288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 из рецептов приготовления традиционного русского блюда — блинов — подразумевал использование картофеля вместо мук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8" name="Рисунок 3" descr="http://luts.ucoz.ru/_ld/7/s19430554.jpg"/>
          <p:cNvPicPr/>
          <p:nvPr/>
        </p:nvPicPr>
        <p:blipFill>
          <a:blip r:embed="rId1"/>
          <a:stretch/>
        </p:blipFill>
        <p:spPr>
          <a:xfrm>
            <a:off x="4143240" y="314316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357120" y="2955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Еврейском университете в Израиле учеными была получена электроэнергия, сгенерированная электрическими   батареями на основе отварной картошки. Такие батареи, состоящие из электродов и куска картофеля, способны работать в течение  нескольких суток. При этом вырабатываемое электричество в несколько раз дешевле получаемого от обычных батареек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0" name="Рисунок 2" descr="Интересные факты о картофеле"/>
          <p:cNvPicPr/>
          <p:nvPr/>
        </p:nvPicPr>
        <p:blipFill>
          <a:blip r:embed="rId1"/>
          <a:stretch/>
        </p:blipFill>
        <p:spPr>
          <a:xfrm>
            <a:off x="1357200" y="2714760"/>
            <a:ext cx="65725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Картинка 157 из 3849"/>
          <p:cNvPicPr/>
          <p:nvPr/>
        </p:nvPicPr>
        <p:blipFill>
          <a:blip r:embed="rId1"/>
          <a:stretch/>
        </p:blipFill>
        <p:spPr>
          <a:xfrm>
            <a:off x="295200" y="1214280"/>
            <a:ext cx="8620200" cy="514836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4"/>
          <p:cNvSpPr/>
          <p:nvPr/>
        </p:nvSpPr>
        <p:spPr>
          <a:xfrm>
            <a:off x="1928880" y="28584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ОФЕЛЬ В РАЗРЕЗЕ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2"/>
          <p:cNvSpPr/>
          <p:nvPr/>
        </p:nvSpPr>
        <p:spPr>
          <a:xfrm>
            <a:off x="1785960" y="857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НЕТ – РЕСУРСЫ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Прямоугольник 3"/>
          <p:cNvSpPr/>
          <p:nvPr/>
        </p:nvSpPr>
        <p:spPr>
          <a:xfrm>
            <a:off x="857160" y="164304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ttp://foodnews-press.ru/zdorovoe-pitanie/45-topy-foodnews-press/832-top-20-interesnih-factov-o-kartoshke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Прямоугольник 4"/>
          <p:cNvSpPr/>
          <p:nvPr/>
        </p:nvSpPr>
        <p:spPr>
          <a:xfrm>
            <a:off x="928800" y="250020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ttp://www.glavrecept.ru/statji/eto-interesno/10-interesnyh-faktov-o-kartofele/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Прямоугольник 5"/>
          <p:cNvSpPr/>
          <p:nvPr/>
        </p:nvSpPr>
        <p:spPr>
          <a:xfrm flipV="1" rot="10800000">
            <a:off x="928800" y="3373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ttp://oggo.by/interesnye-fakty-o-flore-i-faune/item/291-interesnye-fakty-o-kartofele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642960" y="335880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мире известно более 3400 сортов картофеля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14240" y="435996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офель — первый овощ, выращенный в космосе. Произошло это ещё в 1995 году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428760" y="543168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воды в картофеле – порядка 80%, в      зависимости от сорта. Лишь немногим меньше, чем в молоке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42960" y="50976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ое название картофеля Solánum tuberósum. Относится она к роду паслёновых, к которому относятся так же помидоры, паслён, баклажаны и даже табак. Всех их объединяют практически одинаковые цветки, «мохнатые» стебли и способность накапливать соланин, являющийся для человека ядо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714240" y="428760"/>
            <a:ext cx="792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ы на картофель различные, сорт La Bonnotte считается самым дорогим в мире.  Выращивают его на побережье во Франции. Клубни картофеля очень нежные,   и поэтому собирают его вручную. Стоимость за килограмм составляет 500 евро!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8" name="Рисунок 2" descr="Интересные факты о картофеле"/>
          <p:cNvPicPr/>
          <p:nvPr/>
        </p:nvPicPr>
        <p:blipFill>
          <a:blip r:embed="rId1"/>
          <a:stretch/>
        </p:blipFill>
        <p:spPr>
          <a:xfrm>
            <a:off x="1071720" y="2428920"/>
            <a:ext cx="65721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1" descr="Интересные факты о картофеле"/>
          <p:cNvPicPr/>
          <p:nvPr/>
        </p:nvPicPr>
        <p:blipFill>
          <a:blip r:embed="rId1"/>
          <a:stretch/>
        </p:blipFill>
        <p:spPr>
          <a:xfrm>
            <a:off x="285840" y="500040"/>
            <a:ext cx="3786120" cy="55008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2"/>
          <p:cNvSpPr/>
          <p:nvPr/>
        </p:nvSpPr>
        <p:spPr>
          <a:xfrm>
            <a:off x="4429080" y="571680"/>
            <a:ext cx="442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ошка настолько любима, что в ее честь ставят памятники. Например, в 2000-х годах в Минске был установлен памятник картофелю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1" descr="http://luts.ucoz.ru/_ld/7/s45288800.jpg"/>
          <p:cNvPicPr/>
          <p:nvPr/>
        </p:nvPicPr>
        <p:blipFill>
          <a:blip r:embed="rId1"/>
          <a:stretch/>
        </p:blipFill>
        <p:spPr>
          <a:xfrm>
            <a:off x="1857240" y="428760"/>
            <a:ext cx="464364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285840" y="579240"/>
            <a:ext cx="88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ире существует несколько музеев картофеля.   Один из них находится в Бельгии.  Среди его экспонатов — тысячи предметов, рассказывающих об истории картофеля —  от почтовых марок с его изображением  до знаменитых картин на ту же тему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Picture 2" descr="Картинка 43 из 96000"/>
          <p:cNvPicPr/>
          <p:nvPr/>
        </p:nvPicPr>
        <p:blipFill>
          <a:blip r:embed="rId1"/>
          <a:stretch/>
        </p:blipFill>
        <p:spPr>
          <a:xfrm>
            <a:off x="4794120" y="3643200"/>
            <a:ext cx="3907080" cy="211140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3" descr="kartofel"/>
          <p:cNvPicPr/>
          <p:nvPr/>
        </p:nvPicPr>
        <p:blipFill>
          <a:blip r:embed="rId2"/>
          <a:stretch/>
        </p:blipFill>
        <p:spPr>
          <a:xfrm>
            <a:off x="642960" y="2428920"/>
            <a:ext cx="3714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1" descr="http://luts.ucoz.ru/_ld/7/s09216072.jpg"/>
          <p:cNvPicPr/>
          <p:nvPr/>
        </p:nvPicPr>
        <p:blipFill>
          <a:blip r:embed="rId1"/>
          <a:stretch/>
        </p:blipFill>
        <p:spPr>
          <a:xfrm>
            <a:off x="642960" y="714240"/>
            <a:ext cx="7786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музей картофеля расположен в США (Блэквуд, штат Айдахо, признанный картофельный регион). Каждый купивший билет в музей получает вдобавок ящик картофеля, который можно увезти с собой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Рисунок 2" descr="http://luts.ucoz.ru/_ld/7/64034150.jpg"/>
          <p:cNvPicPr/>
          <p:nvPr/>
        </p:nvPicPr>
        <p:blipFill>
          <a:blip r:embed="rId1"/>
          <a:stretch/>
        </p:blipFill>
        <p:spPr>
          <a:xfrm>
            <a:off x="2000160" y="2000160"/>
            <a:ext cx="5429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" descr="Интересные факты о картофеле"/>
          <p:cNvPicPr/>
          <p:nvPr/>
        </p:nvPicPr>
        <p:blipFill>
          <a:blip r:embed="rId1"/>
          <a:stretch/>
        </p:blipFill>
        <p:spPr>
          <a:xfrm>
            <a:off x="1428840" y="1571760"/>
            <a:ext cx="6000840" cy="48574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"/>
          <p:cNvSpPr/>
          <p:nvPr/>
        </p:nvSpPr>
        <p:spPr>
          <a:xfrm>
            <a:off x="571680" y="2901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й большой картофель был выращен в Ливане.   Его вес составлял 11,2 килограмма! Никаких удобрений при выращивании   картофеля не использовалось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4:20:13Z</dcterms:created>
  <dc:creator>Волшебник</dc:creator>
  <dc:description/>
  <dc:language>en-US</dc:language>
  <cp:lastModifiedBy>Учитель</cp:lastModifiedBy>
  <dcterms:modified xsi:type="dcterms:W3CDTF">2018-10-25T12:54:39Z</dcterms:modified>
  <cp:revision>30</cp:revision>
  <dc:subject/>
  <dc:title>Слайд 1</dc:title>
</cp:coreProperties>
</file>